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B7F-B607-4CB5-8D2F-D326FCB4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4F0-12B2-45CE-9D9B-56D47D2A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D53-A392-4345-9D87-12D21FEB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675-24AC-4023-B350-93B8C568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73A-F6D6-4DC9-8942-24B70387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738-4AD4-4D71-9BA8-2E0BB7E2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B03-9D81-4660-A349-4075EAB8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BCC-65E9-44A5-9883-51871216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524-4D13-41A3-A971-88626E3A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843-9D3C-42D5-9BC6-1B56BB3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0A2-F41B-4560-9F67-881EE57F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EE1-65B0-4516-BA00-4D37B888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BADC-5324-4BBB-A757-DCC4C1756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55008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709920" cy="709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5:05Z</dcterms:modified>
  <cp:revision>33</cp:revision>
  <dc:subject/>
  <dc:title>SALARIUL</dc:title>
</cp:coreProperties>
</file>